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D09-48D0-4398-89D5-243348F2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2DC-3660-4203-8A92-ACC36BE4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C54-60C0-4FCA-B776-A9B13ED7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75-58C1-440C-B5B6-EE4A47E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F638-9C55-4C22-8344-C77D53D5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C7A5-9D39-42A6-BE5A-4BDB10C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36A0-1D23-4EE6-9011-8ABAF8EF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049-F2CF-4C9F-8348-8406EFE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AEA4-3451-4494-846A-7F641D53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29D3-E225-499F-858E-8B0F701D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449-171B-49E5-9E52-BE860CF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DC6-D6B6-44E1-9D58-BB719985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5EF-FCB7-4BCA-AD0D-165746B6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CDB4-EEB2-4511-AB5A-7A3D1A8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69BF-0CD0-4D66-BC87-E83FF27A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EC67-2615-4011-A38B-4AD1987F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941C-5EA1-43A0-BBDB-69EAA8E7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467E-060E-4BA5-8EB9-CA92BD93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1415-C428-4DBF-9C2C-F2B6C163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A5C1-3D04-42B6-873C-897ECFD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63D8-D558-46F2-9607-5628E7F6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0DAA-BD06-42E0-AC2F-1FCBDF9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F5C-78B4-492A-96E2-9006400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3350-9E0B-4BA1-BA72-5DC0274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98A3-D859-4A23-B556-9429745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B757-7014-45DF-AF9E-C4923E2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162A-C7D3-4513-8F86-85C1546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E57B-1473-4DA4-8B89-BCAD019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BAAA-F65D-48F4-9170-2E365743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6951-FBBB-4CF8-BF36-2B3C0799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C800-524B-4F44-9737-FF8C953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AA5F-9014-426F-B690-92BB6157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B505-589B-4D4D-AA66-3005617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946-7B2B-4CBB-B2D6-965D52E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6F82-8714-47D0-94FF-BA3FF9F0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FDFE-21A6-4761-A0B4-56405D6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C561-B0CF-4371-A590-EA5DA13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1FB2-A362-4B3D-A47B-FBFFF13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A764-544D-4E13-8EAD-E289D46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BF8E-C7DB-4103-AA15-3745DF3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6C97-2976-4F20-BC0A-DC5A9D6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CA98-4F40-4903-8569-5C22325B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F382-EB01-4410-B63F-A9F156AF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135-DF7A-4047-AF5B-34F287D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BD5-1610-48A5-AA82-EA9E526E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90B-F088-4BD7-978F-CF088B9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B1F-2658-428C-94C7-3A27854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B7D-BC77-4F73-9FD2-EE0A08B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9BE-251C-4870-B0D5-B5A43EBE6655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853-4E1E-46C4-BD5E-991184D9168E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82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D26-4591-4F48-B70A-1DFBDD1535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174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094-44F1-4FAD-9DBE-540D0E5F7BC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K – 5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SM/RtI Seminar: Getting the Work Done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520" y="5714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ruary 7, 2010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s 1, 2, and 3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athering Baseline Data 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cheduling Meeting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ff particip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ent particip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Interventions:  Research-based Strategies and Programs 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Providing Interventions: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Who &amp; When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Progress Monitoring: 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Who, What, How Often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4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xit Criteri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we use Exit Criter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 we choose and write Exit Criteria goals and ob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we progress monitor during the implementation of the IE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41:13Z</dcterms:created>
  <dc:creator>user</dc:creator>
  <dc:description/>
  <dc:language>en-US</dc:language>
  <cp:lastModifiedBy>user</cp:lastModifiedBy>
  <dcterms:modified xsi:type="dcterms:W3CDTF">2011-01-31T17:18:38Z</dcterms:modified>
  <cp:revision>3</cp:revision>
  <dc:subject/>
  <dc:title>K – 5  PSM/RtI Seminar: Getting the Work Done </dc:title>
</cp:coreProperties>
</file>